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4F7C-7563-4DDA-AEC1-864C0418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7F4A-1698-4CC7-A7FB-E9ACAC95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389A-2E6F-4FF8-8D73-1AA08B4CC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66C6-9505-4908-9647-082EA129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BDE5-F623-4B7C-AD29-45DF7240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CA26-CC7F-4AC2-93DD-4088DDD0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CD61-0CEA-48D0-AC2A-0B79E6DA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5793-6FB7-4D61-92CC-7FC85648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E2BC-E7F2-4FAE-B4A4-F088838E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20280"/>
            <a:ext cx="67071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E49B-B060-4637-A5AC-1E6FF032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1CD9-3420-48EC-A9FE-3CE0BFCC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2D01-1FB5-47E8-9DC2-1D09FCB6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A31B-00CA-4A76-A086-B6EB5E8F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B138-CB60-48D7-9D38-1CE7F4D9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0916-F484-4B6F-A326-DD3564A7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9900-0BBC-4C17-BAB7-79464891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F703-F7CF-40EA-8040-EEFAD5C1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7ECC-D570-41CF-9514-C4467491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9B25-882A-4861-B412-7A166504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B2F9-635E-4E57-99BE-E34A5BDD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620280"/>
            <a:ext cx="67071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56B5-E686-42E8-AE84-A401A082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3F14-9BFE-4B90-AE1B-7DA7F946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9B35-1101-48BE-A5CE-D400F655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A997-01ED-41B7-A60F-A5CA6891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9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1d4d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6415-4070-4493-AB7E-E6BE4FDCB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742080"/>
            <a:ext cx="9144000" cy="115920"/>
          </a:xfrm>
          <a:prstGeom prst="rect">
            <a:avLst/>
          </a:prstGeom>
          <a:solidFill>
            <a:srgbClr val="fdbb31"/>
          </a:solidFill>
          <a:ln w="9360">
            <a:solidFill>
              <a:srgbClr val="fdb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093080" y="179280"/>
            <a:ext cx="1860480" cy="122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575784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1d4db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E824-3FC4-4764-9B3B-E878DE80D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1d4d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d4d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1d4d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4d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1d4db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4d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4d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4d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4720" y="441000"/>
            <a:ext cx="162072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5971"/>
                </a:solidFill>
                <a:latin typeface="Arial"/>
              </a:rPr>
              <a:t>EDF1</a:t>
            </a:r>
            <a:endParaRPr b="1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03280" y="1736640"/>
            <a:ext cx="5329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5971"/>
                </a:solidFill>
                <a:latin typeface="Arial"/>
              </a:rPr>
              <a:t>Your visual aid to rescue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979640" y="476280"/>
            <a:ext cx="2235240" cy="785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16000" y="192240"/>
            <a:ext cx="150012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DF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591920"/>
            <a:ext cx="822960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1d4db"/>
                </a:solidFill>
                <a:latin typeface="Arial"/>
              </a:rPr>
              <a:t>EDF1</a:t>
            </a: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 – the World’s most compact Electronic Distress Flare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1d4db"/>
                </a:solidFill>
                <a:latin typeface="Arial"/>
              </a:rPr>
              <a:t>No hazardous pyrotechnics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1d4db"/>
                </a:solidFill>
                <a:latin typeface="Arial"/>
              </a:rPr>
              <a:t>Long operational use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1d4d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1d4db"/>
                </a:solidFill>
                <a:latin typeface="Arial"/>
              </a:rPr>
              <a:t>&gt; 6 hours continuous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1d4db"/>
                </a:solidFill>
                <a:latin typeface="Arial"/>
              </a:rPr>
              <a:t>Unique lens desig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451640" y="1521000"/>
            <a:ext cx="1184400" cy="51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DF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591920"/>
            <a:ext cx="822960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Compact, lightweight, rugged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  <a:ea typeface="Arial"/>
              </a:rPr>
              <a:t>Six hours operation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  <a:ea typeface="Arial"/>
              </a:rPr>
              <a:t>Easy battery replacement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  <a:ea typeface="Arial"/>
              </a:rPr>
              <a:t>Battery test function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  <a:ea typeface="Arial"/>
              </a:rPr>
              <a:t>Waterproof to 10 meters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651640" y="1736640"/>
            <a:ext cx="3170160" cy="4392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3139920"/>
            <a:ext cx="744480" cy="578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1665360"/>
            <a:ext cx="744480" cy="574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6080" y="4400640"/>
            <a:ext cx="741240" cy="574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0" y="3716280"/>
            <a:ext cx="744480" cy="576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0" y="2384280"/>
            <a:ext cx="738360" cy="5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DF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591920"/>
            <a:ext cx="822960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Advanced LED technology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Visibility up to 7 miles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Superb 360</a:t>
            </a:r>
            <a:r>
              <a:rPr b="0" lang="en-US" sz="3200" spc="-1" strike="noStrike">
                <a:solidFill>
                  <a:srgbClr val="c1d4db"/>
                </a:solidFill>
                <a:latin typeface="Arial"/>
                <a:ea typeface="Arial"/>
              </a:rPr>
              <a:t>° visibility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  <a:ea typeface="Arial"/>
              </a:rPr>
              <a:t>Excellent visibility to SAR</a:t>
            </a:r>
            <a:br>
              <a:rPr sz="3200"/>
            </a:br>
            <a:r>
              <a:rPr b="0" lang="en-US" sz="3200" spc="-1" strike="noStrike">
                <a:solidFill>
                  <a:srgbClr val="c1d4db"/>
                </a:solidFill>
                <a:latin typeface="Arial"/>
                <a:ea typeface="Arial"/>
              </a:rPr>
              <a:t>aircraft and helicopters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  <a:ea typeface="Arial"/>
              </a:rPr>
              <a:t>Four operating modes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  <a:ea typeface="Arial"/>
              </a:rPr>
              <a:t>Plus SOS mode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  <a:ea typeface="Arial"/>
              </a:rPr>
              <a:t>Constant Brightness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  <a:ea typeface="Arial"/>
              </a:rPr>
              <a:t>Maintained throughout </a:t>
            </a:r>
            <a:br>
              <a:rPr sz="2800"/>
            </a:br>
            <a:r>
              <a:rPr b="0" lang="en-US" sz="2800" spc="-1" strike="noStrike">
                <a:solidFill>
                  <a:srgbClr val="c1d4db"/>
                </a:solidFill>
                <a:latin typeface="Arial"/>
                <a:ea typeface="Arial"/>
              </a:rPr>
              <a:t>the life of the battery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744480" cy="576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2131920"/>
            <a:ext cx="744480" cy="576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0" y="2637000"/>
            <a:ext cx="744480" cy="576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6080" y="5157720"/>
            <a:ext cx="744480" cy="574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0" y="4113360"/>
            <a:ext cx="749160" cy="57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0" y="3429000"/>
            <a:ext cx="741240" cy="576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5948280" y="1665360"/>
            <a:ext cx="319572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DF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The compact size and rugged design means the </a:t>
            </a:r>
            <a:r>
              <a:rPr b="1" lang="en-US" sz="3200" spc="-1" strike="noStrike">
                <a:solidFill>
                  <a:srgbClr val="c1d4db"/>
                </a:solidFill>
                <a:latin typeface="Arial"/>
              </a:rPr>
              <a:t>rescueME EDF1</a:t>
            </a: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 is the perfect safety product for a grab bag, liferaft or hiker’s backpack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32000" y="3624120"/>
            <a:ext cx="46465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91080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dbb31"/>
                </a:solidFill>
                <a:latin typeface="Arial"/>
              </a:rPr>
              <a:t>rescueME EDF1</a:t>
            </a:r>
            <a:endParaRPr b="0" lang="en-US" sz="4800" spc="-1" strike="noStrike">
              <a:solidFill>
                <a:srgbClr val="c1d4db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d4db"/>
                </a:solidFill>
                <a:latin typeface="Arial"/>
              </a:rPr>
              <a:t>The World’s most compact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ectronic Distress Flare </a:t>
            </a:r>
            <a:endParaRPr b="0" lang="en-US" sz="40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245280" y="2384280"/>
            <a:ext cx="289872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2:16:40Z</dcterms:created>
  <dc:creator>David Sheekey</dc:creator>
  <dc:description/>
  <dc:language>en-US</dc:language>
  <cp:lastModifiedBy>David</cp:lastModifiedBy>
  <dcterms:modified xsi:type="dcterms:W3CDTF">2015-03-30T14:19:49Z</dcterms:modified>
  <cp:revision>150</cp:revision>
  <dc:subject/>
  <dc:title>rescueME PLB1</dc:title>
</cp:coreProperties>
</file>